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1E4-6AFC-48B4-BE89-096B336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2FF-C098-41B3-94E4-379180A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C22-6BAC-4264-B0AF-9709D40D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93B-DB53-4CEF-AECF-A7E062D3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DB6-4A1F-42E0-9BD4-C762E12E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639-02CD-4921-B624-F40CFEB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8008-C6C9-440E-9739-EEF40A6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40E9-25CA-4460-ADF0-85792C4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4AF7-5FAE-4646-ABFC-D39FEF5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998B-09A4-4CD9-99EA-68D17F9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215A-6B2C-4610-B7BD-62657EB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230-6AFE-4350-A339-0245262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72F8-8767-4C61-BF25-F693C5B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0E3-BC2D-4E21-9AD1-048185E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EEF-A17A-4E65-99BD-D5A6E34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048-2AB9-4DDB-82A1-05C56308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7F1-EF2B-48BE-83BC-40BD1B5A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29C-B165-410D-805D-BB4734AE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1F5-69BD-4AC4-9C87-A2100D1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2DA-39D2-48B8-8218-4ECD0741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8BD-5533-4132-9590-173F3CC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C14-FFE3-4BF2-9E5B-580F870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C38-F5D9-4E3B-8360-41D2829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AFB-C191-45FB-B89B-13E996A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9E4-9371-4ED9-86EE-DE8959EA6FF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FBDD-0D3C-452F-A8A4-7C41E20153D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s-wiki.de/mediawiki/index.php/Monosaccharide#Gemeinsame_Eigenschaften" TargetMode="External"/><Relationship Id="rId2" Type="http://schemas.openxmlformats.org/officeDocument/2006/relationships/hyperlink" Target="http://www.bs-wiki.de/mediawiki/index.php/Monosaccharide#Unterschiedliche_Eigenschaften" TargetMode="External"/><Relationship Id="rId3" Type="http://schemas.openxmlformats.org/officeDocument/2006/relationships/hyperlink" Target="http://www.bs-wiki.de/mediawiki/index.php/Monosaccharide#Struktur" TargetMode="External"/><Relationship Id="rId4" Type="http://schemas.openxmlformats.org/officeDocument/2006/relationships/hyperlink" Target="http://www.bs-wiki.de/mediawiki/index.php/Monosaccharide#Aldosen_und_Ketosen" TargetMode="External"/><Relationship Id="rId5" Type="http://schemas.openxmlformats.org/officeDocument/2006/relationships/hyperlink" Target="http://www.bs-wiki.de/mediawiki/index.php/Monosaccharide#Aldosen_und_Ketosen" TargetMode="External"/><Relationship Id="rId6" Type="http://schemas.openxmlformats.org/officeDocument/2006/relationships/hyperlink" Target="http://www.bs-wiki.de/mediawiki/index.php/Monosaccharide#Aldosen_und_Ketosen" TargetMode="External"/><Relationship Id="rId7" Type="http://schemas.openxmlformats.org/officeDocument/2006/relationships/hyperlink" Target="http://www.bs-wiki.de/mediawiki/index.php/Monosaccharide#Aldosen_und_Ketosen" TargetMode="External"/><Relationship Id="rId8" Type="http://schemas.openxmlformats.org/officeDocument/2006/relationships/hyperlink" Target="http://www.bs-wiki.de/mediawiki/index.php/Monosaccharide#Halbacetalbildung" TargetMode="External"/><Relationship Id="rId9" Type="http://schemas.openxmlformats.org/officeDocument/2006/relationships/hyperlink" Target="http://www.bs-wiki.de/mediawiki/index.php/Monosaccharide#.CE.B1-_und_.CE.B2-Form" TargetMode="External"/><Relationship Id="rId10" Type="http://schemas.openxmlformats.org/officeDocument/2006/relationships/hyperlink" Target="http://www.bs-wiki.de/mediawiki/index.php/Monosaccharide#asymmetrisches_C-Atom" TargetMode="External"/><Relationship Id="rId11" Type="http://schemas.openxmlformats.org/officeDocument/2006/relationships/hyperlink" Target="http://www.bs-wiki.de/mediawiki/index.php/Monosaccharide#Zuordnung_zur_D-_und_L-Reihe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Monosacchar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Janina und 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1160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- und β-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i der Halbacetalbildung ist ein asymmetrischen C-Atom entstand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Stellung der OH-Gruppe kennzeichnet die Zuordnung zur α- oder β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124000" y="4365720"/>
            <a:ext cx="47674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ymmetrisches C-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halten in allen MS mit Ausnahme vom  Dihydroxyac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besitzt vier versch. Valenzen mit vier versch. Funktionelle Gruppen oder At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1467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ordnung zur D- und L-Rei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kann in zwei stereoisomeren Formen vorlie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-Reihe = Hydroxylgruppe rec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-Reihe = Hydroxylgruppe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141640" cy="2492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435400" cy="2492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48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sche Aktivit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önnen die Schwingungsebene polarisierten Lichts nach rechts und nach links dr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werden auch optische Antipoden genan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uta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änderung des Drehwinkels des Lichtes durch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d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zu 37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nd zu 63%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dreht das Licht um 112° und di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m um 19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63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9°+37%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•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112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=53,41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hysiologischer We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zen im Kör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des Glucosespieg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äh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272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73200" y="2060640"/>
            <a:ext cx="3687840" cy="4281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akt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üßen von 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chnischer Nutz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duktion von Monosacchar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 Gemeinsam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2 Unterschiedliche Eigenschaft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2.1 Struktu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2.2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Aldosen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 und </a:t>
            </a: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Ketos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2.3 Halbacetalbildu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2.3.1 α- und β-Form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2.4 asymmetrisches C-At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2.4.1 Zuordnung zur D- und L-Reih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2 Optische Aktivitä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.4.3 Muta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3 Physiologischer We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 Nutz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1 prakt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4.2 technisc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ch Fragen 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463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e heute - Sekundarbereich II, Schroedel Verlag, ISBN 3-507-10630-2, S. 360/361, 365, 369, 380/38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undfragen der Ernährung, Handwerk und Technik, ISBN 3-582-04475-0, S. 23-2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S sind Einfachzu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usteine der Saccha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wichtigsten MS für die Ernährung heißen Glucose, Fructose, Mannose &amp; Galakt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kommen: versch. Obstsorten &amp; Ho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emeinsame Eigenschaf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ntstehen aus mehrwertigen Alkoho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6920" y="3429000"/>
            <a:ext cx="1368360" cy="2600280"/>
            <a:chOff x="826920" y="3429000"/>
            <a:chExt cx="1368360" cy="2600280"/>
          </a:xfrm>
        </p:grpSpPr>
        <p:sp>
          <p:nvSpPr>
            <p:cNvPr id="221" name=""/>
            <p:cNvSpPr/>
            <p:nvPr/>
          </p:nvSpPr>
          <p:spPr>
            <a:xfrm>
              <a:off x="1260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3932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508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5084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5661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3280" y="371628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3280" y="42926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3280" y="4868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3280" y="544500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67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933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- C - 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– C – O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872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3716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869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27640" y="3357720"/>
            <a:ext cx="1368720" cy="2673000"/>
            <a:chOff x="6227640" y="3357720"/>
            <a:chExt cx="1368720" cy="2673000"/>
          </a:xfrm>
        </p:grpSpPr>
        <p:sp>
          <p:nvSpPr>
            <p:cNvPr id="240" name=""/>
            <p:cNvSpPr/>
            <p:nvPr/>
          </p:nvSpPr>
          <p:spPr>
            <a:xfrm>
              <a:off x="665964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00720" y="39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- C - O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= 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508644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 – C – O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1080" y="56624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04000" y="371772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000" y="429408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487044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544680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2411280" y="4653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653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aldehy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er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hydroxyac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 können in Ring- oder Kettenform dargestell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ldosen und Keto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s können Aldosen, Ketosen und mehrere Hydroxylgruppen ent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primären Hydroxylgruppe zur Aldehyd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Al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xidation der sekundären Hydroxylgruppe zur Ketogruppe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Keto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dose: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et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635040" cy="1027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7412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Unterschiedliche Eigenschaf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bacetalbil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H-Atom der Hydroxylgruppe wandert zur funktionellen Gru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ch das O-Atom der Hydroxylgruppe entsteht eine Sauerstoffbrüc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1838160" cy="563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6408720" cy="6394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35280" y="321300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35640" y="3357360"/>
            <a:ext cx="1152360" cy="215640"/>
            <a:chOff x="3635640" y="3357360"/>
            <a:chExt cx="1152360" cy="215640"/>
          </a:xfrm>
        </p:grpSpPr>
        <p:sp>
          <p:nvSpPr>
            <p:cNvPr id="270" name=""/>
            <p:cNvSpPr/>
            <p:nvPr/>
          </p:nvSpPr>
          <p:spPr>
            <a:xfrm flipH="1">
              <a:off x="3635640" y="3357360"/>
              <a:ext cx="115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635640" y="3357360"/>
              <a:ext cx="360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0:15:09Z</dcterms:created>
  <dc:creator>Janina</dc:creator>
  <dc:description/>
  <dc:language>en-US</dc:language>
  <cp:lastModifiedBy>Janina</cp:lastModifiedBy>
  <dcterms:modified xsi:type="dcterms:W3CDTF">2006-12-07T15:10:20Z</dcterms:modified>
  <cp:revision>13</cp:revision>
  <dc:subject/>
  <dc:title>Monosaccharide</dc:title>
</cp:coreProperties>
</file>